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png" ContentType="image/png"/>
  <Override PartName="/ppt/media/image20.pct" ContentType="image/x-pict"/>
  <Override PartName="/ppt/media/image22.jpeg" ContentType="image/jpeg"/>
  <Override PartName="/ppt/media/image17.jpeg" ContentType="image/jpeg"/>
  <Override PartName="/ppt/media/image16.png" ContentType="image/png"/>
  <Override PartName="/ppt/media/image13.pct" ContentType="image/x-pict"/>
  <Override PartName="/ppt/media/image14.png" ContentType="image/png"/>
  <Override PartName="/ppt/media/image18.jpeg" ContentType="image/jpeg"/>
  <Override PartName="/ppt/media/image1.pct" ContentType="image/x-pict"/>
  <Override PartName="/ppt/media/image4.png" ContentType="image/png"/>
  <Override PartName="/ppt/media/image9.jpeg" ContentType="image/jpeg"/>
  <Override PartName="/ppt/media/image36.jpeg" ContentType="image/jpeg"/>
  <Override PartName="/ppt/media/image40.png" ContentType="image/png"/>
  <Override PartName="/ppt/media/image3.pct" ContentType="image/x-pict"/>
  <Override PartName="/ppt/media/image30.jpeg" ContentType="image/jpeg"/>
  <Override PartName="/ppt/media/image33.jpeg" ContentType="image/jpeg"/>
  <Override PartName="/ppt/media/image27.jpeg" ContentType="image/jpeg"/>
  <Override PartName="/ppt/media/image15.pct" ContentType="image/x-pict"/>
  <Override PartName="/ppt/media/image6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25.jpeg" ContentType="image/jpeg"/>
  <Override PartName="/ppt/media/image32.png" ContentType="image/png"/>
  <Override PartName="/ppt/media/image37.jpeg" ContentType="image/jpeg"/>
  <Override PartName="/ppt/media/image41.png" ContentType="image/png"/>
  <Override PartName="/ppt/media/image42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9.pct" ContentType="image/x-pict"/>
  <Override PartName="/ppt/media/image11.jpeg" ContentType="image/jpeg"/>
  <Override PartName="/ppt/media/image21.pct" ContentType="image/x-pict"/>
  <Override PartName="/ppt/media/image10.png" ContentType="image/png"/>
  <Override PartName="/ppt/media/image35.jpeg" ContentType="image/jpeg"/>
  <Override PartName="/ppt/media/image5.jpeg" ContentType="image/jpeg"/>
  <Override PartName="/ppt/media/image26.jpeg" ContentType="image/jpeg"/>
  <Override PartName="/ppt/media/image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D96-9553-4356-B751-F8745BDC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FBB-F00C-41C8-BB8C-9089453F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E3E-F17A-470F-A3A7-1D315CF4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624-3EA2-47C3-A35D-B65194E2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56B-0ABE-4205-8E71-4B925744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02B-921A-4259-8FA4-7D2C007C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5A9-9E95-42A2-88BB-B71DBEC3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6B3-A16F-43BA-846A-3D1BB3DA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EEA-DBC1-4DEC-819E-3A53B294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AC0-2FBC-43EB-9681-1372C63C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28D-A860-4F1B-95A2-CB03BEEC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14C-5D7F-4817-BDDA-9C280D51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B2A0-6277-47D3-8CCB-8109CD1BE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161.58.208.54/artchive/r/raphael/popeleox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Haettenschweiler"/>
              </a:rPr>
              <a:t>The Re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614680" cy="373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Luther defends himself at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Diet of Wor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Luther auf dem Reichstag zu Worms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26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iet of 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I cannot and I will not retract anything, since it is neither safe nor right to go against conscie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~Martin Lu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2730600" cy="487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Outcome of W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Pope and Charles V (Holy Roman Emperor) condemn Luther’s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Edict of Worms signed May 1521 – banning Luther from preaching and declaring him a her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BUT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2498760"/>
            <a:ext cx="4038480" cy="272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Outcome of Di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ederick of Saxony (a prince) kidnaps Luther and hides him in Wartburg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uther is then declared an outlaw (and still a her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nslated New Testament into German (very important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utheranism spreads quickly among  German middle classes (why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52920" y="1600200"/>
            <a:ext cx="311976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Life at Wart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mopey and 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ered from depression (among other th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is stay there was important to history – why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91320" y="2063880"/>
            <a:ext cx="2971800" cy="286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sant Rebellion 15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sants assumed Luther’s “Christian Freedom” meant politic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sh the peasant swine!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urged the German princes to crush the revolt without mer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clusions can we draw?  Luther w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ritual revolutio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ervative political thin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43560" y="1676520"/>
            <a:ext cx="3029040" cy="41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08040" y="378000"/>
            <a:ext cx="58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057400"/>
            <a:ext cx="4190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ther assured princes that 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ached religious reformation (not social revolu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…. He secured support of  German nobility and ensured survival of his m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963880" cy="373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24280" y="1981080"/>
            <a:ext cx="4114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Protestant Reformation spreads outside German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1522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Garamond"/>
              </a:rPr>
              <a:t>Ulrich Zwingli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began a movement in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Switzerland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622600" cy="2895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1600200"/>
            <a:ext cx="41148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Zwingli stood fo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Garamond"/>
              </a:rPr>
              <a:t>literal interpretation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of Scrip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s again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int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ilgr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erical celib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cr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023920" cy="35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8320" y="2514600"/>
            <a:ext cx="4114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Zwingli’s city of Zurich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model of </a:t>
            </a:r>
            <a:r>
              <a:rPr b="0" i="1" lang="en-US" sz="3200" spc="-1" strike="noStrike">
                <a:solidFill>
                  <a:srgbClr val="000000"/>
                </a:solidFill>
                <a:latin typeface="AGaramond"/>
              </a:rPr>
              <a:t>puritanical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Protestant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harsh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literal reading of 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2611440"/>
            <a:ext cx="3886200" cy="30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ettenschweiler"/>
              </a:rPr>
              <a:t>The Roots of Chan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Rise of middle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Printing pr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Popular relig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Christian mys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Monarchs want freed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76880" y="1295280"/>
            <a:ext cx="284652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48320" y="1905120"/>
            <a:ext cx="41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Garamond"/>
              </a:rPr>
              <a:t>A Protestant work e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rejected sensuality of the Italian Rena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forbade games, dancing and f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encouraged hard lab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04020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48320" y="190512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Swiss movement encouraged more radical forms of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Anabap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2714760" cy="383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8108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Anabapt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emphasized  importance of </a:t>
            </a:r>
            <a:r>
              <a:rPr b="0" i="1" lang="en-US" sz="2800" spc="-1" strike="noStrike">
                <a:solidFill>
                  <a:srgbClr val="000000"/>
                </a:solidFill>
                <a:latin typeface="AGaramond"/>
              </a:rPr>
              <a:t>adult baptism,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 being “born again” into a life of Chr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rural, agrarian population (persecuted in  citie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1529, rebaptism became a capital offense throughout most of central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5680" y="1905120"/>
            <a:ext cx="42674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stellar"/>
              </a:rPr>
              <a:t>John Calvin</a:t>
            </a: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(1509-15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Calvinism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replaced Lutheranism as  dominant Protestant force in Europe during second half of 16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78424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343400" y="1905120"/>
            <a:ext cx="441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Calvinists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Garamond"/>
              </a:rPr>
              <a:t>predestination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(idea there was an “elect” that was already chosen by God for salv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12840" y="1295280"/>
            <a:ext cx="3924360" cy="5181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43400" y="1905120"/>
            <a:ext cx="441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Even though individuals were predestined for either damnation or salvation, they were still commanded, according to Calvinists, to live in a manifestly God-pleasing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2520" y="1371600"/>
            <a:ext cx="3036960" cy="396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343400" y="1905120"/>
            <a:ext cx="441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Garamond"/>
              </a:rPr>
              <a:t>Theocracies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established by Calvinists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Garamond"/>
              </a:rPr>
              <a:t>Geneva,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and later by the Puritans that settled Massachusetts Bay (1620) enforced the strictest moral discip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74960" cy="3733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952880" y="1981080"/>
            <a:ext cx="381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Last phase of the Protestant Reformation came in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King Henry 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646440" cy="3962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114800" y="1295280"/>
            <a:ext cx="40384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nry fretted about not having a male 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Not understanding how X and Y chromosomes worked, Henry blamed his wife,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Catherine of Aragon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, for bearing him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1990440" cy="383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76920" y="1981080"/>
            <a:ext cx="403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Their only surviving daughter,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Mary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had been born in 15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78280" cy="426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ettenschweiler"/>
              </a:rPr>
              <a:t>Corrup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ettenschweiler"/>
              </a:rPr>
              <a:t>Nepotism – giving church offices to re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ettenschweiler"/>
              </a:rPr>
              <a:t>Simony – The sale of Church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Indulg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The moment the $ tinkles in the collecting box, a soul flies out of Purgator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35304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181480" y="1981080"/>
            <a:ext cx="358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So he asks the pope, Clement VII, for an annulment, so he can marry Anne Boleyn (mist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3941640" cy="426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48320" y="1371600"/>
            <a:ext cx="4114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BUT Catherine of Aragon is the daughter of the very powerful (and still Catholic)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King Ferdinand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of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SO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Pope Clement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turns down Henry’s request for an annul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35480" cy="3810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181480" y="1981080"/>
            <a:ext cx="373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After five years of bickering, Henry marries Anne Boleyn in 1533, proclaiming his marriage to Catherine of Aragon “invali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576600" cy="3886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181480" y="1981080"/>
            <a:ext cx="35816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aramond"/>
              </a:rPr>
              <a:t>Act of Supremacy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 (1534), Henry declares himself, head of the Church of England (Anglican Chu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2114640" cy="188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267080" y="1981080"/>
            <a:ext cx="449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Henry then began confiscating Church lands (making monarchy very wealt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15145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0" y="1981080"/>
            <a:ext cx="4191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Thomas More (Henry’s Chancellor) opposed the Act of Supre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Was beheaded in 1535 (Catholic Church made him into a s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838600" cy="3505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181480" y="1981080"/>
            <a:ext cx="358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Anne Boleyn gave birth a daughter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Elizabeth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 15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Anne was beheaded in 1536 (accused of adulte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3941640" cy="426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952880" y="19810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Two weeks after Anne’s execution, Henry married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Jane Seymour,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who gave Henry his long-awaited son,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Edward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, in 153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06072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2880" y="1981080"/>
            <a:ext cx="358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Never recovered from Edward’s difficult bi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Died 12 days l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43120" cy="50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952880" y="19810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In 1540, poor lonely Henry married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Anne of Cl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Divorced her after only a few months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34008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Corrup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552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Moral abus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1/5 of all priests kept concubines in the diocese of T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572000" cy="339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952880" y="1981080"/>
            <a:ext cx="35816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..so he could marry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Catherine Howard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.whom he had beheaded in 154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09960" cy="44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205740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Henry’s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 and final wife was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Catherine Parr,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whom he married in 15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260532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2286000"/>
            <a:ext cx="373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Henry died in 1547; he was succeeded by his only son (by Jane Seymour),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Edward VI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3048120" cy="29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029200" y="228600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But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Edward VI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had always been a sickly child, and died in 15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With no other male heirs, the oldest daughter became Qu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27520" cy="464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2057400"/>
            <a:ext cx="411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Queen Mary (the daughter of Catherine of Aragon) was a staunch Catholic, and she was determined to restore papal authority in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Aka  Bloody 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67812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057400"/>
            <a:ext cx="41148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She was especially anxious to crush the growing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Puritan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min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ed in 1558, having reigned for only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67812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2057400"/>
            <a:ext cx="41148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Mary was succeeded by Henry’s other daughter (by Anne Boleyn),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Elizabeth I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lizabeth (r. 1558-1603) reversed her half-sist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 pro-Catholic policies, instead restoring the Anglican Church to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72120" y="1523880"/>
            <a:ext cx="3451320" cy="50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Martin Lu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Help me Saint Anne, I will become a monk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2805120" cy="3047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ettenschweiler"/>
              </a:rPr>
              <a:t>MARTIN LUT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95 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faith, not good works, was the key to salv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Romans I:17 “The just shall live by fa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32280" y="1523880"/>
            <a:ext cx="427824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Martin Lu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June 15, 1520 Luther excommunica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clared a her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Summoned to Worms (Vurm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Click to view full-sized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76840" y="1295280"/>
            <a:ext cx="387972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00600" y="6553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Pope Le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Luther tosses the Papal Bull (excommunication papers) into a fire at Wittenbu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hist. Bild"/>
          <p:cNvPicPr/>
          <p:nvPr/>
        </p:nvPicPr>
        <p:blipFill>
          <a:blip r:embed="rId2"/>
          <a:stretch/>
        </p:blipFill>
        <p:spPr>
          <a:xfrm>
            <a:off x="1295280" y="1905120"/>
            <a:ext cx="6705720" cy="46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Treatises of Martin Lu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German communities need religious freed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Pope not head of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Baptism and Communion are only 2 sacra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Rejected poverty, chastity, obe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Eventually agreed clergy could m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45080" y="1752480"/>
            <a:ext cx="2922480" cy="47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7:22:38Z</dcterms:created>
  <dc:creator>padmin</dc:creator>
  <dc:description/>
  <dc:language>en-US</dc:language>
  <cp:lastModifiedBy>Susan Gregory</cp:lastModifiedBy>
  <dcterms:modified xsi:type="dcterms:W3CDTF">2007-10-09T06:31:38Z</dcterms:modified>
  <cp:revision>38</cp:revision>
  <dc:subject/>
  <dc:title>Slide 1</dc:title>
</cp:coreProperties>
</file>